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AD68-7AAD-4B39-BD0F-A9AE2E7E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s are borrowed from the social sciences.  They are helpful tools for planning programs, specific interventions, research, and M&amp;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hensive view of the factors that drive an intervention – the epidemiology of TB, local resources, donor eff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us see what is contributing to challenges and suc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 can be synergistic or sometimes represent obstacles to our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One example is health-sector reform – can visualize how these changes will affect program with a framework and plan for anticipated challe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 assumptions, goals, and interrelationships among factors relevant to the project o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levels of performance and desired results in terms of planned activities and realistic, objective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and evaluation frameworks incorpor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managers’ assumptions and objectives in a give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atic design displaying the directional linkages between key program elements and/or planned results, and other releva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&amp;E takes place at multiple stages of a program. It is important to identify at the outset how we will gather information at each level of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drives selection of indicators and reporting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6E99-7FAB-403F-869E-D2494080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574640" y="228600"/>
            <a:ext cx="3557880" cy="2668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22240" y="3077640"/>
            <a:ext cx="52308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y relationship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s are necessary to create processes, which drive the production of outputs an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iterates the point on the previous sli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generic example of an M&amp;E framework for a national TB program.  This framework shows the linear relationships between inputs, processes, outputs, outcomes, and impact.  It also provides a visual interpretation of the broad context for the NTP, which inclu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yste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-econom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ical context of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is to expand on it and create a M&amp;E logical framework that could be used to guide planning, monitoring, and evaluating the introduction of directly observed therapy as the standard of care for smear-positive TB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04E-5A3E-4D29-B2D8-77CAA3D1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403280" y="863640"/>
            <a:ext cx="4054680" cy="3041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2960" y="4203720"/>
            <a:ext cx="5032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other way to understand frameworks – think about the level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0058-9011-47A8-9C39-AA966939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625760" y="304920"/>
            <a:ext cx="3456000" cy="2592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3125520"/>
            <a:ext cx="510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lusions about M&amp;E frameworks </a:t>
            </a:r>
            <a:br>
              <a:rPr sz="1000"/>
            </a:br>
            <a:br>
              <a:rPr sz="10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meworks allow Program Manager </a:t>
            </a:r>
            <a:br>
              <a:rPr sz="9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cide on what elements to monitor 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n strategically for M&amp;E activities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oose appropriate methodology for M&amp;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 indicators to monitor and evaluation program implement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3AD-3F3D-4DA0-B5FE-57157E3C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686-644C-46D0-A716-A6FC645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999-C0E6-48B5-B1F5-6C677413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25B-F527-4571-B4BD-3B06650F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A92-06B6-472A-8D61-49E4740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561F-8CF0-4BC8-BEC2-CFDA96C8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687F-DFF2-4CA4-BDA9-045380B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236-7D8F-41B6-A474-F814591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BE0D-E89B-4086-BB78-3BB4194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C2C-6809-4198-BAA6-DAF9CCE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80E1-4A5B-40C8-A96A-E8F343E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F7E-F104-4826-9B84-3F53DBEA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5BF4-EC9E-4BEB-8D9A-11ECB5D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B30-14E1-4AE1-83D4-099C25A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9E7-A812-4B16-B5CB-E4DBFA6B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EC3F-AA4A-40B7-96C1-7A837C69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3DC-F287-496B-A350-623C1790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E36-F50B-48C2-89FD-D4964BF2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797-501E-4359-B1B1-12DFA597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615-D70B-427B-8B17-B5674FA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481-B46B-463B-93E4-24B4DB05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E05-392E-4D86-9CCF-5B0201E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64B-D335-47C9-AE00-E592B40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379-F1FF-4A9C-9549-4012BB2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33D-7172-4EDD-98F4-B62B652FF1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774-DC83-4A92-9A4E-12EB469B9D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onitoring and Evaluation Frame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2860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at is an M&amp;E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 we use M&amp;E Framewor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 do we develop M&amp;E Framewor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394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396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1" name=""/>
          <p:cNvGraphicFramePr/>
          <p:nvPr/>
        </p:nvGraphicFramePr>
        <p:xfrm>
          <a:off x="2819520" y="5562720"/>
          <a:ext cx="15238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562720"/>
                    <a:ext cx="1523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&amp;E Frame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, pictures, or 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e the factors that drive an inter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s that illustrate how a progra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lationships between factors that influence program operation and the successful achievement of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do we use M&amp;E framework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2752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nd plann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“map” for progr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between resources an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 selection of indicator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E L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OGICAL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RAMEWORK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the relationships between program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puts,  Processes,  Outputs, and Outco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the program to desir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4920" y="1219320"/>
            <a:ext cx="137160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and manageri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1219320"/>
            <a:ext cx="1752480" cy="336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resource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1219320"/>
            <a:ext cx="144756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1219320"/>
            <a:ext cx="182880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h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1219320"/>
            <a:ext cx="144792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4876920"/>
            <a:ext cx="8381880" cy="15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commitment     Health system        Socio-economic conditions      Epi-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ility                                                                                     HIV preva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                                                                                            Mal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zation                                                                                       Alcoho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457200"/>
            <a:ext cx="6095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E logical framework for TB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814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590920" y="4571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62120" y="3962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781680" y="29718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5680" y="4190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1828800"/>
            <a:ext cx="13716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uidelines for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1828800"/>
            <a:ext cx="1670040" cy="31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 of HC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ion of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1828800"/>
            <a:ext cx="1798560" cy="404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CWs trained to provide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 available at 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atients receiving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outcomes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1828800"/>
            <a:ext cx="194472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cure  and treatment comple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d failure and defaul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1828800"/>
            <a:ext cx="1692360" cy="239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morbidity/ mortality due to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ention of MDR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228600"/>
            <a:ext cx="8218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Arial"/>
              </a:rPr>
              <a:t>Logic Framework 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Directly Observ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562360" cy="1104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gic Framework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c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act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Level (cohort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leve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44956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438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76312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295280"/>
            <a:ext cx="6705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program components should be monito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ic and systematic planning of M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methodology for M&amp;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at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2:06:50Z</dcterms:created>
  <dc:creator>kmacint</dc:creator>
  <dc:description/>
  <dc:language>en-US</dc:language>
  <cp:lastModifiedBy>Carolina Population Center</cp:lastModifiedBy>
  <cp:lastPrinted>2005-02-21T22:17:27Z</cp:lastPrinted>
  <dcterms:modified xsi:type="dcterms:W3CDTF">2006-11-08T17:28:29Z</dcterms:modified>
  <cp:revision>27</cp:revision>
  <dc:subject/>
  <dc:title>Conceptual Frameworks</dc:title>
</cp:coreProperties>
</file>