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1C4-A370-452F-B3C8-B1E32101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ergy between M&amp;E and political commitment – what is the relationship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spent time on function of M&amp;E to facility priority setting, identify programmatic strengths and weaknesses, important role of accoun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does it relate to political commit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E8A2-E3FF-4D9B-850D-CCB4152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B5E8-B265-41D1-8774-73C24370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689F-8FAC-4412-A399-2BA303B1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BB04-DACF-481A-91B2-6FB7EFD1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47A-3138-4915-82F0-1BED7A7B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AC1-8AB0-4FD0-96B3-E0609419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7D0-E2DE-41C4-A44C-428783D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32CC-F6CF-4F14-90AD-20C76D1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CB6-78A1-41F9-97A7-B484A3F1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E575-7ECA-483B-8DE2-473F79F8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85E-19AE-4289-B8A7-365AD41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9D98-4999-4509-BC36-B4CC0FF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E92-97CE-4A7E-96B5-D694C53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9A4-3E8B-4285-98D0-8F2D0C3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389-2947-484B-934C-4355DDE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5F8-2822-4B9D-B1C7-7A46C2DC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4FEB-92E6-4DDA-8025-9A4DB6F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71A9-721D-44F3-B306-2C478E43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5E27-289E-418A-9521-62E0EF55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458D-E14D-43F0-A0B1-64BAE82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20D5-3257-4DA0-8E2B-252C85C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A0AE-F426-4B56-93B1-D59F043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D348-2194-4225-A5A9-33BAD53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5D03-2EF1-4E8A-93F7-AC595A5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688-92C5-434F-8451-3884D4BE2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285-9963-4152-9B57-CED0F4766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agement strategies for Montoring &amp;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otte Colv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Regional NTP Worksh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elhi,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February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304920"/>
            <a:ext cx="730080" cy="604800"/>
            <a:chOff x="533520" y="304920"/>
            <a:chExt cx="730080" cy="604800"/>
          </a:xfrm>
        </p:grpSpPr>
        <p:sp>
          <p:nvSpPr>
            <p:cNvPr id="116" name=""/>
            <p:cNvSpPr/>
            <p:nvPr/>
          </p:nvSpPr>
          <p:spPr>
            <a:xfrm>
              <a:off x="576360" y="78120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33520" y="304920"/>
              <a:ext cx="730080" cy="488880"/>
              <a:chOff x="533520" y="304920"/>
              <a:chExt cx="730080" cy="488880"/>
            </a:xfrm>
          </p:grpSpPr>
          <p:sp>
            <p:nvSpPr>
              <p:cNvPr id="118" name=""/>
              <p:cNvSpPr/>
              <p:nvPr/>
            </p:nvSpPr>
            <p:spPr>
              <a:xfrm>
                <a:off x="903240" y="739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5800" y="3366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5720" y="30492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9160" y="33192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3520" y="43344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0000" y="51120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49400" y="52236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480" y="53208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5640" y="68256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24040" y="49860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" y="49860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00" y="50796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9560" y="50796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320" y="774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8600" y="53496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381600" y="91440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66880" y="380880"/>
          <a:ext cx="1524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80880"/>
                    <a:ext cx="1524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867280" y="2286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&amp;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of staff to participate – is there a boycot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cultur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ubmission vs.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a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mmunizati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surveillance and program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a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5410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Global TB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political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ubl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M&amp;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link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9880" y="2666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743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onitoring &amp;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Prior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990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Programmatic strengths &amp;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4343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Implementation of new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20960" y="1257120"/>
            <a:ext cx="5317920" cy="3733920"/>
            <a:chOff x="1920960" y="1257120"/>
            <a:chExt cx="5317920" cy="3733920"/>
          </a:xfrm>
        </p:grpSpPr>
        <p:sp>
          <p:nvSpPr>
            <p:cNvPr id="150" name=""/>
            <p:cNvSpPr/>
            <p:nvPr/>
          </p:nvSpPr>
          <p:spPr>
            <a:xfrm>
              <a:off x="2073240" y="1257120"/>
              <a:ext cx="1371600" cy="1295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905080" y="1333080"/>
              <a:ext cx="1371600" cy="12956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1882800" y="3657600"/>
              <a:ext cx="1371600" cy="1295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10800000">
            <a:off x="5943600" y="3809520"/>
            <a:ext cx="1371600" cy="1295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ublic awarenes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5120" y="2590920"/>
            <a:ext cx="5333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 is not enou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has an image probl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ystem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ies beyond reporting, M&amp;E p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collect all thi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DOTS beyond diseas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7:46:06Z</dcterms:created>
  <dc:creator>Charlotte Colvin</dc:creator>
  <dc:description/>
  <dc:language>en-US</dc:language>
  <cp:lastModifiedBy>Charlotte Colvin</cp:lastModifiedBy>
  <dcterms:modified xsi:type="dcterms:W3CDTF">2006-02-01T22:30:03Z</dcterms:modified>
  <cp:revision>6</cp:revision>
  <dc:subject/>
  <dc:title>Engagement strategies for Montoring &amp; Evaluation</dc:title>
</cp:coreProperties>
</file>