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jpeg" ContentType="image/jpeg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D6E7-DDD5-4DAB-BE02-77F1DF13E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7240" y="434196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B Control has become a National Program since 1969 under coordination of the Ministry of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92, the National Program evaluated by WHO and KNCV (Royal Netherlands Tuberculosis Association)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ure Rate of the notified cases is as low as 40-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recommended Indonesia to adopt DOTS, as this strategy has shown a great success in many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onesia’s National TB-Control Program adopted DOTS as a national strategy in 1995, after “OPERATIONAL TRIAL RUN,” conducted in 2 provinces, showed a very good result and reached a cure rate of more then 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S was expanded to the whole country gradual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years after implementing DOTS, the National Program conducted an evaluation of DOTS expansion and the performance of DOTS where the Case Detection Rate is quite low as 12%, while the population coverage increased to 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99, the Minister of Health launched  “GERDUNAS-TBC,” a nationally-integrated movement to fight against TBC. This became the beginning of the National TB Control Program accel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ing collaboration of PUBLIC-PUBLIC MIX (Gov’t Hospital, Prison, Military Hospital and Health centers) as well as PUBLIC-PRIVATE MIX (Private Hospital, Private Clinic, Private Practitioners, Work-place et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Notification from 2001 onward, following  capacity-building activities supported by the Dutch Government, starting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CF8C-E699-434A-BC59-2A8B5D4A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C5F2-7223-49DF-AA8E-76E26CAD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5DF-605E-441D-B588-18934FB8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465B-1DFC-438A-B2ED-C8911F2C4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7B4D-50DC-47C7-93D3-660DAD51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FC85-6691-413B-9AAD-6476603F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14B3-B65C-4181-882B-6889CE98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B9FE-CD09-4763-922D-DB106DB4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D30C-9267-47F8-AE7D-9700D342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FBEA-616C-491B-8017-CF4FA37A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1BAD-4AC4-495B-A19F-012CE1D8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0339-4A28-4F14-B852-49AD10BA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29EA-D46D-4CBD-BA53-27CB878AB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997360"/>
            <a:ext cx="6840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451640" y="981000"/>
            <a:ext cx="1273320" cy="1766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9280" y="1052640"/>
            <a:ext cx="71247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5164200"/>
            <a:ext cx="60483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Dr Carmelia Bas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Dr Nadia Tarmiz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National TB Control Program Indone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M&amp;E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MEASURE Evaluation, New Delhi, 1Feb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42920" y="2871720"/>
            <a:ext cx="5689800" cy="2394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24000" y="836640"/>
            <a:ext cx="676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&amp;E for a Better Pla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24360" y="2060640"/>
            <a:ext cx="316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DONESIA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7268-9F1A-471F-838C-109E190F12C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28600" y="907920"/>
          <a:ext cx="7151760" cy="44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07920"/>
                    <a:ext cx="7151760" cy="44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85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Indonesia :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Maiandra GD"/>
              </a:rPr>
              <a:t>22 High Burden Count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91720" y="1517760"/>
            <a:ext cx="1793520" cy="511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Ch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ff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Maiandra GD"/>
                <a:ea typeface="Arial"/>
              </a:rPr>
              <a:t>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Banglade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Nig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Pakist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South Af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Philipp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Rus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Ethiop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Keny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DR Con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Viet N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UR Tanz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Braz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Thai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Zimbab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Cambo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Myan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Uga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Afghanist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Mozamb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305880" y="3645000"/>
            <a:ext cx="3528360" cy="3618000"/>
            <a:chOff x="3305880" y="3645000"/>
            <a:chExt cx="3528360" cy="3618000"/>
          </a:xfrm>
        </p:grpSpPr>
        <p:sp>
          <p:nvSpPr>
            <p:cNvPr id="60" name=""/>
            <p:cNvSpPr/>
            <p:nvPr/>
          </p:nvSpPr>
          <p:spPr>
            <a:xfrm rot="2235600">
              <a:off x="3809520" y="4129920"/>
              <a:ext cx="2441520" cy="248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46" y="5579"/>
                  </a:moveTo>
                  <a:arcTo wR="10800" hR="10800" stAng="-9065283" swAng="36568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46" y="5579"/>
                  </a:moveTo>
                  <a:arcTo wR="10800" hR="10800" stAng="-9065283" swAng="3656836"/>
                </a:path>
              </a:pathLst>
            </a:custGeom>
            <a:solidFill>
              <a:srgbClr val="cc00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2235600">
              <a:off x="3868920" y="4242600"/>
              <a:ext cx="2441520" cy="248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3" y="0"/>
                  </a:moveTo>
                  <a:arcTo wR="10800" hR="10800" stAng="-5408447" swAng="64877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3" y="0"/>
                  </a:moveTo>
                  <a:arcTo wR="10800" hR="10800" stAng="-5408447" swAng="6487734"/>
                </a:path>
              </a:pathLst>
            </a:custGeom>
            <a:solidFill>
              <a:srgbClr val="ea8914"/>
            </a:solidFill>
            <a:ln w="0">
              <a:noFill/>
            </a:ln>
            <a:effectLst>
              <a:outerShdw dist="71785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2235600">
              <a:off x="3887280" y="4289040"/>
              <a:ext cx="2442960" cy="248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72" y="14135"/>
                  </a:moveTo>
                  <a:arcTo wR="10800" hR="10800" stAng="1079288" swAng="56534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72" y="14135"/>
                  </a:moveTo>
                  <a:arcTo wR="10800" hR="10800" stAng="1079288" swAng="5653425"/>
                </a:path>
              </a:pathLst>
            </a:custGeom>
            <a:solidFill>
              <a:srgbClr val="dddddd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979640" y="3648960"/>
            <a:ext cx="4549320" cy="3493080"/>
            <a:chOff x="1979640" y="3648960"/>
            <a:chExt cx="4549320" cy="3493080"/>
          </a:xfrm>
        </p:grpSpPr>
        <p:sp>
          <p:nvSpPr>
            <p:cNvPr id="64" name=""/>
            <p:cNvSpPr/>
            <p:nvPr/>
          </p:nvSpPr>
          <p:spPr>
            <a:xfrm flipH="1">
              <a:off x="3522240" y="4486320"/>
              <a:ext cx="887400" cy="46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531960" y="4937040"/>
              <a:ext cx="5176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3531960" y="5219640"/>
              <a:ext cx="5176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3531960" y="5527800"/>
              <a:ext cx="5176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531960" y="5824440"/>
              <a:ext cx="5176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517920" y="5973840"/>
              <a:ext cx="465120" cy="77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3415680" y="6129360"/>
              <a:ext cx="489240" cy="1555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235600">
              <a:off x="3841920" y="4317840"/>
              <a:ext cx="2179800" cy="241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17" y="20799"/>
                  </a:moveTo>
                  <a:arcTo wR="10800" hR="10800" stAng="6732713" swAng="182695"/>
                  <a:lnTo>
                    <a:pt x="10800" y="10800"/>
                  </a:lnTo>
                  <a:close/>
                </a:path>
                <a:path fill="none" w="21600" h="21600">
                  <a:moveTo>
                    <a:pt x="6717" y="20799"/>
                  </a:moveTo>
                  <a:arcTo wR="10800" hR="10800" stAng="6732713" swAng="182695"/>
                </a:path>
              </a:pathLst>
            </a:custGeom>
            <a:solidFill>
              <a:srgbClr val="66ff99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2235600">
              <a:off x="3791160" y="4062960"/>
              <a:ext cx="2181240" cy="241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" y="12102"/>
                  </a:moveTo>
                  <a:arcTo wR="10800" hR="10800" stAng="10384390" swAng="2150327"/>
                  <a:lnTo>
                    <a:pt x="10800" y="10800"/>
                  </a:lnTo>
                  <a:close/>
                </a:path>
                <a:path fill="none" w="21600" h="21600">
                  <a:moveTo>
                    <a:pt x="79" y="12102"/>
                  </a:moveTo>
                  <a:arcTo wR="10800" hR="10800" stAng="10384390" swAng="2150327"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2235600">
              <a:off x="3805560" y="4093200"/>
              <a:ext cx="2184120" cy="24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73" y="14813"/>
                  </a:moveTo>
                  <a:arcTo wR="10800" hR="10800" stAng="9491315" swAng="893075"/>
                  <a:lnTo>
                    <a:pt x="10800" y="10800"/>
                  </a:lnTo>
                  <a:close/>
                </a:path>
                <a:path fill="none" w="21600" h="21600">
                  <a:moveTo>
                    <a:pt x="773" y="14813"/>
                  </a:moveTo>
                  <a:arcTo wR="10800" hR="10800" stAng="9491315" swAng="893075"/>
                </a:path>
              </a:pathLst>
            </a:custGeom>
            <a:solidFill>
              <a:srgbClr val="ff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2235600">
              <a:off x="3810960" y="4136400"/>
              <a:ext cx="2181600" cy="240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4" y="17109"/>
                  </a:moveTo>
                  <a:arcTo wR="10800" hR="10800" stAng="8655276" swAng="83603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4" y="17109"/>
                  </a:moveTo>
                  <a:arcTo wR="10800" hR="10800" stAng="8655276" swAng="836039"/>
                </a:path>
              </a:pathLst>
            </a:cu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2235600">
              <a:off x="3816720" y="4218120"/>
              <a:ext cx="2183040" cy="24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022" y="19925"/>
                  </a:moveTo>
                  <a:arcTo wR="10800" hR="10800" stAng="7340449" swAng="6528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022" y="19925"/>
                  </a:moveTo>
                  <a:arcTo wR="10800" hR="10800" stAng="7340449" swAng="652810"/>
                </a:path>
              </a:pathLst>
            </a:custGeom>
            <a:solidFill>
              <a:srgbClr val="33cc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2235600">
              <a:off x="3813120" y="4164120"/>
              <a:ext cx="2181600" cy="240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04" y="18670"/>
                  </a:moveTo>
                  <a:arcTo wR="10800" hR="10800" stAng="7993260" swAng="662017"/>
                  <a:lnTo>
                    <a:pt x="10800" y="10800"/>
                  </a:lnTo>
                  <a:close/>
                </a:path>
                <a:path fill="none" w="21600" h="21600">
                  <a:moveTo>
                    <a:pt x="3404" y="18670"/>
                  </a:moveTo>
                  <a:arcTo wR="10800" hR="10800" stAng="7993260" swAng="662017"/>
                </a:path>
              </a:pathLst>
            </a:cu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2235600">
              <a:off x="3828240" y="4255920"/>
              <a:ext cx="2177280" cy="2407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192" y="20568"/>
                  </a:moveTo>
                  <a:arcTo wR="10800" hR="10800" stAng="6915408" swAng="425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6192" y="20568"/>
                  </a:moveTo>
                  <a:arcTo wR="10800" hR="10800" stAng="6915408" swAng="425041"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73480" y="4476600"/>
              <a:ext cx="1407240" cy="243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onesia 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49560" y="4827600"/>
              <a:ext cx="136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  <a:ea typeface="Arial"/>
                </a:rPr>
                <a:t>Bangladesh 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59200" y="4152960"/>
              <a:ext cx="789120" cy="520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79920" y="5305320"/>
              <a:ext cx="647640" cy="520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3440" y="6016680"/>
              <a:ext cx="72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Arial"/>
                  <a:ea typeface="Arial"/>
                </a:rPr>
                <a:t>Ot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Arial"/>
                  <a:ea typeface="Arial"/>
                </a:rPr>
                <a:t>28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49560" y="544032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  <a:ea typeface="Arial"/>
                </a:rPr>
                <a:t>Philippines 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27280" y="5156280"/>
              <a:ext cx="89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  <a:ea typeface="Arial"/>
                </a:rPr>
                <a:t>Pakistan 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37800" y="572292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  <a:ea typeface="Arial"/>
                </a:rPr>
                <a:t>Nigeria 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79640" y="6000840"/>
              <a:ext cx="153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  <a:ea typeface="Arial"/>
                </a:rPr>
                <a:t>South Africa 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22960" y="6254640"/>
              <a:ext cx="76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  <a:ea typeface="Arial"/>
                </a:rPr>
                <a:t>Russia 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Chronology of events leading to </a:t>
            </a:r>
            <a:br>
              <a:rPr sz="3700"/>
            </a:b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rapid scaling up of DOT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-1440" y="2945880"/>
            <a:ext cx="45468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66840" y="1295280"/>
            <a:ext cx="8742240" cy="5506920"/>
            <a:chOff x="366840" y="1295280"/>
            <a:chExt cx="8742240" cy="5506920"/>
          </a:xfrm>
        </p:grpSpPr>
        <p:graphicFrame>
          <p:nvGraphicFramePr>
            <p:cNvPr id="91" name=""/>
            <p:cNvGraphicFramePr/>
            <p:nvPr/>
          </p:nvGraphicFramePr>
          <p:xfrm>
            <a:off x="366840" y="1295280"/>
            <a:ext cx="8326440" cy="42674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6840" y="1295280"/>
                      <a:ext cx="8326440" cy="426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1654200" y="4064040"/>
              <a:ext cx="9907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rdunas*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ablish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9560" y="45212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55800" y="6095880"/>
              <a:ext cx="1523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rst Partners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e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60560" y="3987720"/>
              <a:ext cx="12193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RD Progr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Dutch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r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232160" y="510516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46360" y="6121440"/>
              <a:ext cx="11430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epwi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i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89360" y="4464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84800" y="4038480"/>
              <a:ext cx="609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YS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89560" y="4083120"/>
              <a:ext cx="762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D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13400" y="5607000"/>
              <a:ext cx="12189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FATM Pr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5070600" y="49971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46560" y="5987880"/>
              <a:ext cx="11430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B Partn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22880" y="3930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BC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I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rt-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42200" y="5454720"/>
              <a:ext cx="914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FAT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rt-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985000" y="499716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60960" y="4768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508880" y="4056120"/>
              <a:ext cx="990720" cy="56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A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rt-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889760" y="4641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65880" y="4464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442200" y="49971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2251080" y="49525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27600" y="4673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56000" y="5334120"/>
              <a:ext cx="106668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spi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936880" y="5028840"/>
              <a:ext cx="1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42200" y="6324480"/>
              <a:ext cx="2666880" cy="477720"/>
            </a:xfrm>
            <a:prstGeom prst="rect">
              <a:avLst/>
            </a:prstGeom>
            <a:solidFill>
              <a:srgbClr val="ffff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*Gerdunas = National Integrate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vement to Fight against T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0" y="1773360"/>
          <a:ext cx="8955000" cy="4733640"/>
        </p:xfrm>
        <a:graphic>
          <a:graphicData uri="http://schemas.openxmlformats.org/drawingml/2006/table">
            <a:tbl>
              <a:tblPr/>
              <a:tblGrid>
                <a:gridCol w="3586680"/>
                <a:gridCol w="971280"/>
                <a:gridCol w="216000"/>
                <a:gridCol w="4181040"/>
              </a:tblGrid>
              <a:tr h="73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Health Service Uni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ot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nvolved in DO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3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Cen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44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g Clinic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44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g Hos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44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Hos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44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ncial Hos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44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y Hos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44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 Hos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44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e Hos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44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 Practitio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  (&gt;98%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 (100%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(100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 (25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 (20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 (28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  (12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(15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?   (piloting 5 provinc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5438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TS Services</a:t>
            </a:r>
            <a:br>
              <a:rPr sz="44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20 Mill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nc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33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trict/Municipal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8320" y="692280"/>
            <a:ext cx="8077320" cy="5221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763272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EVALENCE Survey   2004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79280" y="1523880"/>
          <a:ext cx="8964720" cy="50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523880"/>
                    <a:ext cx="8964720" cy="50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1066680" y="3809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34320" y="388620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3809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190760" y="18288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800240" y="175248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52880" y="1600200"/>
            <a:ext cx="8384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11592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ing estimates of incidence to be applied at provincial leve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514600"/>
            <a:ext cx="8381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523880"/>
            <a:ext cx="8381880" cy="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E48E-47E1-460E-91D4-B40C2ACDC6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8000" y="266760"/>
            <a:ext cx="7750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ase Detection Rate 2004  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846680" y="2138400"/>
          <a:ext cx="4189320" cy="334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6680" y="2138400"/>
                    <a:ext cx="418932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0" y="2136600"/>
          <a:ext cx="4716360" cy="3338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136600"/>
                    <a:ext cx="471636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79280" y="3429000"/>
          <a:ext cx="4176720" cy="264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429000"/>
                    <a:ext cx="417672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573440" y="3352680"/>
          <a:ext cx="4570560" cy="2905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3440" y="3352680"/>
                    <a:ext cx="457056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2" name=""/>
          <p:cNvGrpSpPr/>
          <p:nvPr/>
        </p:nvGrpSpPr>
        <p:grpSpPr>
          <a:xfrm>
            <a:off x="167040" y="588960"/>
            <a:ext cx="4260240" cy="2555280"/>
            <a:chOff x="167040" y="588960"/>
            <a:chExt cx="4260240" cy="2555280"/>
          </a:xfrm>
        </p:grpSpPr>
        <p:sp>
          <p:nvSpPr>
            <p:cNvPr id="143" name=""/>
            <p:cNvSpPr/>
            <p:nvPr/>
          </p:nvSpPr>
          <p:spPr>
            <a:xfrm>
              <a:off x="689400" y="673920"/>
              <a:ext cx="363060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9400" y="899640"/>
              <a:ext cx="36306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9400" y="1068120"/>
              <a:ext cx="3630600" cy="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9400" y="1167120"/>
              <a:ext cx="3630600" cy="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9400" y="1265760"/>
              <a:ext cx="3630600" cy="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9400" y="1337040"/>
              <a:ext cx="3630600" cy="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9400" y="1407960"/>
              <a:ext cx="363060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9400" y="1463760"/>
              <a:ext cx="3630600" cy="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9400" y="1534680"/>
              <a:ext cx="3630600" cy="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9400" y="1590480"/>
              <a:ext cx="3630600" cy="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9400" y="1633680"/>
              <a:ext cx="3630600" cy="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9400" y="1703520"/>
              <a:ext cx="3630600" cy="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9400" y="1746720"/>
              <a:ext cx="363060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9400" y="1802160"/>
              <a:ext cx="3630600" cy="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9400" y="1845720"/>
              <a:ext cx="363060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400" y="1901160"/>
              <a:ext cx="3630600" cy="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9400" y="1942920"/>
              <a:ext cx="3630600" cy="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9400" y="2000160"/>
              <a:ext cx="3630600" cy="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9400" y="2057040"/>
              <a:ext cx="3630600" cy="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9400" y="2098800"/>
              <a:ext cx="3630600" cy="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9400" y="2170080"/>
              <a:ext cx="3630600" cy="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9400" y="2239920"/>
              <a:ext cx="3630600" cy="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9400" y="2310840"/>
              <a:ext cx="3630600" cy="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9400" y="2409840"/>
              <a:ext cx="3630600" cy="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9400" y="2508480"/>
              <a:ext cx="3630600" cy="1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9400" y="2635200"/>
              <a:ext cx="36306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680" y="687600"/>
              <a:ext cx="3630240" cy="21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7680" y="2592000"/>
              <a:ext cx="36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7680" y="2352600"/>
              <a:ext cx="3630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7680" y="2112840"/>
              <a:ext cx="36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7680" y="1873440"/>
              <a:ext cx="3630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7680" y="1647720"/>
              <a:ext cx="3630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7680" y="1407960"/>
              <a:ext cx="36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7680" y="1167120"/>
              <a:ext cx="36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7680" y="927360"/>
              <a:ext cx="3630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7680" y="687600"/>
              <a:ext cx="36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7680" y="687600"/>
              <a:ext cx="3630240" cy="2145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7680" y="687600"/>
              <a:ext cx="1080" cy="2145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3560" y="283320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3560" y="259200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3560" y="2352600"/>
              <a:ext cx="23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3560" y="211284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3560" y="1873440"/>
              <a:ext cx="23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3560" y="1647720"/>
              <a:ext cx="23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3560" y="140796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3560" y="116712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3560" y="927360"/>
              <a:ext cx="23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3560" y="68760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7680" y="2833200"/>
              <a:ext cx="36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97680" y="2833200"/>
              <a:ext cx="1080" cy="4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214280" y="2833200"/>
              <a:ext cx="1440" cy="4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739160" y="2833200"/>
              <a:ext cx="1080" cy="4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254680" y="2833200"/>
              <a:ext cx="1080" cy="4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771280" y="2833200"/>
              <a:ext cx="1080" cy="4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288240" y="2833200"/>
              <a:ext cx="1080" cy="4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812760" y="2833200"/>
              <a:ext cx="1080" cy="4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4328280" y="2833200"/>
              <a:ext cx="1440" cy="4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60120" y="1633680"/>
              <a:ext cx="3105720" cy="902520"/>
            </a:xfrm>
            <a:custGeom>
              <a:avLst/>
              <a:gdLst/>
              <a:ahLst/>
              <a:rect l="l" t="t" r="r" b="b"/>
              <a:pathLst>
                <a:path w="379" h="64">
                  <a:moveTo>
                    <a:pt x="0" y="64"/>
                  </a:moveTo>
                  <a:lnTo>
                    <a:pt x="63" y="60"/>
                  </a:lnTo>
                  <a:lnTo>
                    <a:pt x="126" y="43"/>
                  </a:lnTo>
                  <a:lnTo>
                    <a:pt x="190" y="41"/>
                  </a:lnTo>
                  <a:lnTo>
                    <a:pt x="253" y="39"/>
                  </a:lnTo>
                  <a:lnTo>
                    <a:pt x="316" y="21"/>
                  </a:lnTo>
                  <a:lnTo>
                    <a:pt x="379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60120" y="758880"/>
              <a:ext cx="3105720" cy="1678680"/>
            </a:xfrm>
            <a:custGeom>
              <a:avLst/>
              <a:gdLst/>
              <a:ahLst/>
              <a:rect l="l" t="t" r="r" b="b"/>
              <a:pathLst>
                <a:path w="379" h="119">
                  <a:moveTo>
                    <a:pt x="0" y="119"/>
                  </a:moveTo>
                  <a:lnTo>
                    <a:pt x="63" y="114"/>
                  </a:lnTo>
                  <a:lnTo>
                    <a:pt x="126" y="85"/>
                  </a:lnTo>
                  <a:lnTo>
                    <a:pt x="190" y="76"/>
                  </a:lnTo>
                  <a:lnTo>
                    <a:pt x="253" y="68"/>
                  </a:lnTo>
                  <a:lnTo>
                    <a:pt x="316" y="16"/>
                  </a:lnTo>
                  <a:lnTo>
                    <a:pt x="379" y="0"/>
                  </a:lnTo>
                </a:path>
              </a:pathLst>
            </a:custGeom>
            <a:noFill/>
            <a:ln w="190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8720" y="2465280"/>
              <a:ext cx="81720" cy="141840"/>
            </a:xfrm>
            <a:custGeom>
              <a:avLst/>
              <a:gdLst/>
              <a:ahLst/>
              <a:rect l="l" t="t" r="r" b="b"/>
              <a:pathLst>
                <a:path w="62" h="102">
                  <a:moveTo>
                    <a:pt x="31" y="0"/>
                  </a:moveTo>
                  <a:lnTo>
                    <a:pt x="62" y="51"/>
                  </a:lnTo>
                  <a:lnTo>
                    <a:pt x="31" y="102"/>
                  </a:lnTo>
                  <a:lnTo>
                    <a:pt x="0" y="51"/>
                  </a:lnTo>
                  <a:lnTo>
                    <a:pt x="31" y="0"/>
                  </a:lnTo>
                  <a:close/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35680" y="2409840"/>
              <a:ext cx="81720" cy="140400"/>
            </a:xfrm>
            <a:custGeom>
              <a:avLst/>
              <a:gdLst/>
              <a:ahLst/>
              <a:rect l="l" t="t" r="r" b="b"/>
              <a:pathLst>
                <a:path w="62" h="101">
                  <a:moveTo>
                    <a:pt x="31" y="0"/>
                  </a:moveTo>
                  <a:lnTo>
                    <a:pt x="62" y="50"/>
                  </a:lnTo>
                  <a:lnTo>
                    <a:pt x="31" y="101"/>
                  </a:lnTo>
                  <a:lnTo>
                    <a:pt x="0" y="50"/>
                  </a:lnTo>
                  <a:lnTo>
                    <a:pt x="31" y="0"/>
                  </a:lnTo>
                  <a:close/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52640" y="2170080"/>
              <a:ext cx="80640" cy="1407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30" y="0"/>
                  </a:moveTo>
                  <a:lnTo>
                    <a:pt x="61" y="50"/>
                  </a:lnTo>
                  <a:lnTo>
                    <a:pt x="30" y="101"/>
                  </a:lnTo>
                  <a:lnTo>
                    <a:pt x="0" y="50"/>
                  </a:lnTo>
                  <a:lnTo>
                    <a:pt x="30" y="0"/>
                  </a:lnTo>
                  <a:close/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76080" y="2140920"/>
              <a:ext cx="81720" cy="141840"/>
            </a:xfrm>
            <a:custGeom>
              <a:avLst/>
              <a:gdLst/>
              <a:ahLst/>
              <a:rect l="l" t="t" r="r" b="b"/>
              <a:pathLst>
                <a:path w="62" h="102">
                  <a:moveTo>
                    <a:pt x="31" y="0"/>
                  </a:moveTo>
                  <a:lnTo>
                    <a:pt x="62" y="51"/>
                  </a:lnTo>
                  <a:lnTo>
                    <a:pt x="31" y="102"/>
                  </a:lnTo>
                  <a:lnTo>
                    <a:pt x="0" y="51"/>
                  </a:lnTo>
                  <a:lnTo>
                    <a:pt x="31" y="0"/>
                  </a:lnTo>
                  <a:close/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992680" y="2112840"/>
              <a:ext cx="82080" cy="140760"/>
            </a:xfrm>
            <a:custGeom>
              <a:avLst/>
              <a:gdLst/>
              <a:ahLst/>
              <a:rect l="l" t="t" r="r" b="b"/>
              <a:pathLst>
                <a:path w="62" h="101">
                  <a:moveTo>
                    <a:pt x="31" y="0"/>
                  </a:moveTo>
                  <a:lnTo>
                    <a:pt x="62" y="51"/>
                  </a:lnTo>
                  <a:lnTo>
                    <a:pt x="31" y="101"/>
                  </a:lnTo>
                  <a:lnTo>
                    <a:pt x="0" y="51"/>
                  </a:lnTo>
                  <a:lnTo>
                    <a:pt x="31" y="0"/>
                  </a:lnTo>
                  <a:close/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9280" y="1859400"/>
              <a:ext cx="81720" cy="140400"/>
            </a:xfrm>
            <a:custGeom>
              <a:avLst/>
              <a:gdLst/>
              <a:ahLst/>
              <a:rect l="l" t="t" r="r" b="b"/>
              <a:pathLst>
                <a:path w="62" h="101">
                  <a:moveTo>
                    <a:pt x="31" y="0"/>
                  </a:moveTo>
                  <a:lnTo>
                    <a:pt x="62" y="50"/>
                  </a:lnTo>
                  <a:lnTo>
                    <a:pt x="31" y="101"/>
                  </a:lnTo>
                  <a:lnTo>
                    <a:pt x="0" y="50"/>
                  </a:lnTo>
                  <a:lnTo>
                    <a:pt x="31" y="0"/>
                  </a:lnTo>
                  <a:close/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24800" y="1562760"/>
              <a:ext cx="82080" cy="140400"/>
            </a:xfrm>
            <a:custGeom>
              <a:avLst/>
              <a:gdLst/>
              <a:ahLst/>
              <a:rect l="l" t="t" r="r" b="b"/>
              <a:pathLst>
                <a:path w="62" h="101">
                  <a:moveTo>
                    <a:pt x="31" y="0"/>
                  </a:moveTo>
                  <a:lnTo>
                    <a:pt x="62" y="51"/>
                  </a:lnTo>
                  <a:lnTo>
                    <a:pt x="31" y="101"/>
                  </a:lnTo>
                  <a:lnTo>
                    <a:pt x="0" y="51"/>
                  </a:lnTo>
                  <a:lnTo>
                    <a:pt x="31" y="0"/>
                  </a:lnTo>
                  <a:close/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18720" y="2366640"/>
              <a:ext cx="74160" cy="12816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35680" y="2297160"/>
              <a:ext cx="74160" cy="12636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52640" y="1887120"/>
              <a:ext cx="72360" cy="12636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76080" y="1760400"/>
              <a:ext cx="73800" cy="12636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92680" y="1647720"/>
              <a:ext cx="74160" cy="12636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09280" y="913680"/>
              <a:ext cx="72720" cy="12636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24800" y="687600"/>
              <a:ext cx="74160" cy="12672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02840" y="1717200"/>
              <a:ext cx="42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  <a:ea typeface="Arial"/>
                </a:rPr>
                <a:t>100,2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61120" y="19720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  <a:ea typeface="Arial"/>
                </a:rPr>
                <a:t>74.73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70080" y="2253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  <a:ea typeface="Arial"/>
                </a:rPr>
                <a:t>53.96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29000" y="228276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  <a:ea typeface="Arial"/>
                </a:rPr>
                <a:t>52.33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031840" y="2253600"/>
              <a:ext cx="29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  <a:ea typeface="Arial"/>
                </a:rPr>
                <a:t>49.33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44760" y="24793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  <a:ea typeface="Arial"/>
                </a:rPr>
                <a:t>29.78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31680" y="2608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  <a:ea typeface="Arial"/>
                </a:rPr>
                <a:t>25.4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00080" y="646200"/>
              <a:ext cx="42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  <a:ea typeface="Arial"/>
                </a:rPr>
                <a:t>174,18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74120" y="871560"/>
              <a:ext cx="42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  <a:ea typeface="Arial"/>
                </a:rPr>
                <a:t>152.2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32480" y="1491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  <a:ea typeface="Arial"/>
                </a:rPr>
                <a:t>93.03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42080" y="1717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  <a:ea typeface="Arial"/>
                </a:rPr>
                <a:t>84.59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86240" y="18871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  <a:ea typeface="Arial"/>
                </a:rPr>
                <a:t>73.43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66480" y="2112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  <a:ea typeface="Arial"/>
                </a:rPr>
                <a:t>39.55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1360" y="2253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  <a:ea typeface="Arial"/>
                </a:rPr>
                <a:t>33.21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3720" y="249300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3720" y="225360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3720" y="201384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3720" y="177444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7040" y="154872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7040" y="130932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1800" y="106812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1800" y="82872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1800" y="58896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59320" y="2961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75560" y="2961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91440" y="2961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17040" y="2961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32920" y="2961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48080" y="2961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65040" y="2961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40480" y="842400"/>
              <a:ext cx="205200" cy="1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22200" y="814680"/>
              <a:ext cx="32760" cy="5652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12" y="0"/>
                  </a:moveTo>
                  <a:lnTo>
                    <a:pt x="25" y="20"/>
                  </a:lnTo>
                  <a:lnTo>
                    <a:pt x="12" y="41"/>
                  </a:lnTo>
                  <a:lnTo>
                    <a:pt x="0" y="2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70520" y="772560"/>
              <a:ext cx="1148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  <a:ea typeface="Arial"/>
                </a:rPr>
                <a:t>Kasus TB Baru BTA(+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40480" y="1026360"/>
              <a:ext cx="205200" cy="108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22200" y="998640"/>
              <a:ext cx="25200" cy="4140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50360" y="955440"/>
              <a:ext cx="602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  <a:ea typeface="Arial"/>
                </a:rPr>
                <a:t>Semua tip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4495680" y="380880"/>
            <a:ext cx="4422960" cy="277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performance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miologic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ad to reach the Global Target by 2005</a:t>
            </a:r>
            <a:r>
              <a:rPr b="0" lang="en-GB" sz="4100" spc="-1" strike="noStrike">
                <a:solidFill>
                  <a:srgbClr val="000000"/>
                </a:solidFill>
                <a:latin typeface="Maiandra GD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530280" y="1600200"/>
          <a:ext cx="3890880" cy="218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1600200"/>
                    <a:ext cx="389088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4788000" y="1405080"/>
            <a:ext cx="3887640" cy="23922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324000" y="1341360"/>
            <a:ext cx="3960720" cy="25448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851280" y="6597720"/>
            <a:ext cx="194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iandra GD"/>
                <a:ea typeface="Arial"/>
              </a:rPr>
              <a:t>WHO Global TB Report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800600" y="3733920"/>
            <a:ext cx="3743280" cy="2541600"/>
            <a:chOff x="4800600" y="3733920"/>
            <a:chExt cx="3743280" cy="2541600"/>
          </a:xfrm>
        </p:grpSpPr>
        <p:sp>
          <p:nvSpPr>
            <p:cNvPr id="260" name=""/>
            <p:cNvSpPr/>
            <p:nvPr/>
          </p:nvSpPr>
          <p:spPr>
            <a:xfrm flipV="1">
              <a:off x="6391080" y="4176360"/>
              <a:ext cx="464760" cy="73440"/>
            </a:xfrm>
            <a:prstGeom prst="line">
              <a:avLst/>
            </a:prstGeom>
            <a:ln w="19080">
              <a:solidFill>
                <a:srgbClr val="0000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7840" y="3768480"/>
              <a:ext cx="1256040" cy="5529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15960" y="3781440"/>
              <a:ext cx="3427560" cy="2127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15960" y="3781440"/>
              <a:ext cx="2160" cy="212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88600" y="5909400"/>
              <a:ext cx="27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88600" y="5555520"/>
              <a:ext cx="27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8600" y="5201640"/>
              <a:ext cx="27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88600" y="484884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88600" y="448920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88600" y="413532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88600" y="378144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15960" y="5909400"/>
              <a:ext cx="34275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5115960" y="5909400"/>
              <a:ext cx="216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5740920" y="5909400"/>
              <a:ext cx="108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6365160" y="590940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984360" y="5909400"/>
              <a:ext cx="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608960" y="5909400"/>
              <a:ext cx="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8232120" y="5909400"/>
              <a:ext cx="72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296120" y="3750840"/>
              <a:ext cx="2160" cy="21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15960" y="4313880"/>
              <a:ext cx="342756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51080" y="58629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51080" y="55101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951080" y="51552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51080" y="47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7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51080" y="44416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51080" y="4087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02480" y="37339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92200" y="60037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94840" y="60037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18720" y="60037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7200" y="60037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59280" y="60037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158320" y="60037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30760" y="6062040"/>
              <a:ext cx="205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e Detection Rate (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6200000">
              <a:off x="4163760" y="4456440"/>
              <a:ext cx="1486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ccess Rate (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56840" y="4070160"/>
              <a:ext cx="315360" cy="10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24440" y="3974040"/>
              <a:ext cx="35820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10760" y="3874320"/>
              <a:ext cx="633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RGET ZON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36520" y="5239440"/>
              <a:ext cx="107640" cy="2930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528880" y="5201280"/>
              <a:ext cx="73080" cy="3690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5744520" y="4279320"/>
              <a:ext cx="288000" cy="12535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42040" y="415584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17600" y="427176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45240" y="542124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389560" y="519732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032880" y="4250160"/>
              <a:ext cx="429120" cy="3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77280" y="408348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11800" y="404424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6821640" y="4109400"/>
              <a:ext cx="538200" cy="66960"/>
            </a:xfrm>
            <a:prstGeom prst="line">
              <a:avLst/>
            </a:prstGeom>
            <a:ln w="19080">
              <a:solidFill>
                <a:srgbClr val="0000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7324560" y="4035600"/>
              <a:ext cx="538200" cy="66960"/>
            </a:xfrm>
            <a:prstGeom prst="line">
              <a:avLst/>
            </a:prstGeom>
            <a:ln w="19080">
              <a:solidFill>
                <a:srgbClr val="0000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852880" y="308916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ess in 2002-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395280" y="3825720"/>
            <a:ext cx="3960720" cy="24148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696680" y="544500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ess in 2001-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23600" y="306864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ess in 2000-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16:03:30Z</dcterms:created>
  <dc:creator> </dc:creator>
  <dc:description/>
  <dc:language>en-US</dc:language>
  <cp:lastModifiedBy>Carolina Population Center</cp:lastModifiedBy>
  <dcterms:modified xsi:type="dcterms:W3CDTF">2006-11-08T20:09:33Z</dcterms:modified>
  <cp:revision>4</cp:revision>
  <dc:subject/>
  <dc:title> </dc:title>
</cp:coreProperties>
</file>